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1A2D-6B1C-422C-98CC-31D6579AB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464D-8CC0-4178-AD84-66156D98D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95FC-8E1E-406E-B261-3F082CE27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3B45-01D2-4B70-9083-0F67D1244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F006-2D90-4A8D-AB48-DBED27F5C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F11D-0D6B-4CB2-BA20-C2FB954C2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02E1-CDE1-4FF9-81DD-600E69719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F60F-C5FB-4572-B51E-E1310260D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D42E-A074-47D2-B577-54292A923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24C2-F530-4822-BEF9-B6460F86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ABFE-73BF-42C5-98CA-8D486B4A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1702-5BA5-4D5C-92F4-AACD852A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4D90A-9C46-4FEE-817B-6F4E648EC7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64320" y="14479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冀教版（一起）二年级英语下册课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447920" y="3581280"/>
            <a:ext cx="56386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Lesson 25 Let's go outside</a:t>
            </a:r>
            <a:endParaRPr b="1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705720" y="5715000"/>
            <a:ext cx="1981080" cy="8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952880" y="2057400"/>
            <a:ext cx="3297240" cy="4191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83400" y="762120"/>
            <a:ext cx="769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I put on my sweater/hat/co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029200" y="2514600"/>
            <a:ext cx="3747960" cy="4114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34960" y="1143000"/>
            <a:ext cx="52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t’s hot outsid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09480" y="2209320"/>
            <a:ext cx="79250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put on my sweater/hat/coa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want to go outsid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’s cold/warm/hot outsid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 it hot?     Yes, it is.  /  No, it isn’t It’s co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838080" y="1066680"/>
            <a:ext cx="359100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sentences: 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09480" y="835560"/>
            <a:ext cx="75438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课堂作业：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做动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(1)I put on my sweat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(2) I put on my ha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(3) I put on my coa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(4) I put on my sho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(5) I take off my sweat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(6) I take off my ha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514600" y="3048120"/>
            <a:ext cx="4724280" cy="20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Goodbye</a:t>
            </a:r>
            <a:endParaRPr b="1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705720" y="5715000"/>
            <a:ext cx="1981080" cy="8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105520" y="1143000"/>
            <a:ext cx="3747960" cy="38098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49360" y="1143000"/>
            <a:ext cx="159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ol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838080" y="3429000"/>
            <a:ext cx="41148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048120" y="2324160"/>
            <a:ext cx="5410080" cy="3790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052640" y="1117440"/>
            <a:ext cx="1971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war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343400" y="2544840"/>
            <a:ext cx="3800520" cy="3627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11480" y="1247760"/>
            <a:ext cx="124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ho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743200" y="1066680"/>
            <a:ext cx="4330800" cy="5257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449360" y="792720"/>
            <a:ext cx="292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weater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209680" y="1143000"/>
            <a:ext cx="5677200" cy="4667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92160" y="1097640"/>
            <a:ext cx="178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hat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657600" y="1752480"/>
            <a:ext cx="3419640" cy="4019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838080" y="91332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oat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809880" y="2133720"/>
            <a:ext cx="4381560" cy="3971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052640" y="888840"/>
            <a:ext cx="376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Go outs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648320" y="2666880"/>
            <a:ext cx="3162240" cy="31338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509480" y="1346040"/>
            <a:ext cx="231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Put 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dz</cp:lastModifiedBy>
  <dcterms:modified xsi:type="dcterms:W3CDTF">2012-05-28T07:17:26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